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ABF9-09BD-4D56-91E4-984EDCB8A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AD44-26C2-4BB2-9127-8847CA91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740E-E438-443E-9D2A-179A1A2C6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4E4F-1B8E-4DAD-BDBA-429E6494C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3126-C617-4118-BC30-486FA0A9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D37F-2D42-45F9-B020-648FC960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AA0B-41B3-4CD3-805E-FB1D6EC2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99C0-09BD-4419-8EAC-180E1FC9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9FFE-6B73-4294-8B21-3C929143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09AD-4903-437A-9287-6338AD39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2BA6-A601-41A2-9DC4-B2166F04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0068-ABCC-4C52-B3E5-57896B14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54BB-5D5A-430A-9360-4896EF529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rusad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[CENSORED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CENSORED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CENSORED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[CENSORED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rusades were started when the Muslims conquered Jerusalem, a holy cit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rus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e Urban II told his men to recapture the holy area for the Christia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ght Crusades in all, four of them being the major on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st Crusade - 1096 A.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96 A.D. - year Pope sent his men to capture Jerusal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tians managed to recapture holy city from Musl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nd Crusade - 1146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/Germans attempt but fail to capture Edessa (Christian c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essa, captured by Muslims 114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rd Crusade - 118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gs of France, Germany, and England recapture land lost to the Muslim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s in truce between Richard I and Saladin (Muslim leader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th Crusade - 11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terranean merchants join crus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l to reach Holy Lands but plunder Byzantine Empire in 12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ldren’s Crusade - 12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50,000 French and German children walk to Holy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die/are ensla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18:01:03Z</dcterms:created>
  <dc:creator>Howard County Public Schools</dc:creator>
  <dc:description/>
  <dc:language>en-US</dc:language>
  <cp:lastModifiedBy>Shaunak Mirani</cp:lastModifiedBy>
  <dcterms:modified xsi:type="dcterms:W3CDTF">2008-11-23T13:03:17Z</dcterms:modified>
  <cp:revision>4</cp:revision>
  <dc:subject/>
  <dc:title>The Crusades </dc:title>
</cp:coreProperties>
</file>