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EEF9-4658-4529-8D19-B37B49E6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6C7-B6BC-427D-A8C3-25E5998E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989-C01B-4132-BF65-0C3DE9D7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71E-C064-4D0B-B266-A2092A3C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902-1D7F-45E2-9B5E-B98BCA9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865-C815-4F58-A881-82D8E5A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5BD-97D0-4FB4-8381-03A21864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6AC6-5CE1-42EE-8BFD-0ED780AF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AF6-8F46-4361-A7CE-4D63DFB9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4BF-F61E-4167-B175-BAA36998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403-16CE-47D8-8CA2-8B982968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420-CEA6-4016-8B18-22FFE77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326-ADFD-4D9F-A0D3-04CAD61C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[CENSORED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[CENSORE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 were started when the Muslims conquered Jerusalem, a holy c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e Urban II told his men to recapture the holy area for the Christ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ht Crusades in all, four of them being the major 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st Crusade - 1096 A.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96 A.D. - year Pope sent his men to capture Jerusal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ians managed to recapture holy city from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nd Crusade - 114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/Germans attempt but fail to capture Edessa (Christian 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essa, captured by Muslims 11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rd Crusade - 118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s of France, Germany, and England recapture land lost to the Musli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s in truce between Richard I and Saladin (Muslim lead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th Crusade - 11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terranean merchants join crus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 to reach Holy Lands but plunder Byzantine Empire in 12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ldren’s Crusade - 12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50,000 French and German children walk to Holy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ie/are ensl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8:01:03Z</dcterms:created>
  <dc:creator>Howard County Public Schools</dc:creator>
  <dc:description/>
  <dc:language>en-US</dc:language>
  <cp:lastModifiedBy>Shaunak Mirani</cp:lastModifiedBy>
  <dcterms:modified xsi:type="dcterms:W3CDTF">2008-11-23T13:03:17Z</dcterms:modified>
  <cp:revision>4</cp:revision>
  <dc:subject/>
  <dc:title>The Crusades </dc:title>
</cp:coreProperties>
</file>